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25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13105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131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096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039920" y="0"/>
            <a:ext cx="309060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11040" y="706320"/>
            <a:ext cx="4709880" cy="35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945280"/>
            <a:ext cx="3090960" cy="471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039920" y="8945280"/>
            <a:ext cx="3090600" cy="471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B2B5436-D688-42FF-A23D-18E394DD7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BA2AE1A-13BC-45BD-A618-77F4B7C25A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A434CE3-7D9E-4552-BE3B-61F0A7C230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7903020-CCB4-433D-804D-627538D3F3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607AFD2-7381-4E92-BC09-13A9D7D3F9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ED994C5-6C4B-4D5B-B884-15511906DB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6042544-5181-4655-A763-A1B755D235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DC5E29A-1734-43E4-9451-D9C167A3C7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F8324A0-2339-4EF9-8786-21A1776B25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90A0514-4878-43A3-B803-D6FF55158B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C5947FE-CC1C-4290-81E2-CAEE3AF66D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F059C7A-979B-4B65-947F-900330D4A6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FCD6C5C-01A7-4595-A161-64D02DE0EB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01D4920-EB89-473D-B1CF-5792A10C06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B09560D-0005-45AC-8B8D-B69B496997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4542791-B395-41CD-8924-9F96B85B06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8F159B2-AFD3-429E-9F4B-8379416BCF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9EF2649-BFB6-4955-8F69-06E0CEBE11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E26C99D-AFD4-40FD-BF4C-65419C2AB3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D31502C-BA5A-408F-8D30-889CCA7A3D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81F61EE-31DD-4A9C-9AB8-7B71998E9F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F0E657D-5697-4934-9C08-D7053B4B60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77CC768-FF6E-46E9-91B3-F1C10FFC5F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4DC9CF2-DC84-4FED-A1D6-C67D1DC93A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9893678-1EA0-415C-B50F-981772F38F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5EBC790-689C-4264-A5B8-4FD3D7A6C3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8766F07-52F7-477E-8F58-FFA4B195E5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40E0FDF-BD63-4468-BF5F-CDF5C24831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795D2DD-1A79-409F-872A-74CF0034C0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1F357CE-7E58-4F6C-946E-163D37EB5E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3FD57DA-6494-4F84-9CFC-53A59005E2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E421367-893D-4AB4-88AE-4C6AD769BB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F4C84EA-3C48-4FDE-B7FE-DCCCE98521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7304B42-0EDF-468E-A756-CA6EDF6696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F227D53-3703-48F9-AA69-02FDBBE22B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9ACFE4F-4E92-4503-9ABF-41288F52FB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4B1E902-8CED-4014-8192-4A1D543DF8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76E6AF8-F9CD-4AC7-8159-12937E4AD8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9EFD845-8F78-45BB-A607-51E429B44C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4E9BBB5-A37A-402F-9972-ED70B2817B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F161097-4656-4B0E-B773-87B4005A84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F8C-6F2A-4EDB-9DE7-E8C60DF4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B81-4069-4484-80BC-DEF62566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1B0-D985-402F-9646-66701429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06E-0CD6-4EBB-8F4B-9A874511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EDB8-0518-45A3-84D0-79572974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BFE4-9AB8-4C6E-92D5-924228E4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5B8A-9752-4F44-A95E-7ECDAC31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DAE2-8F2E-404D-8C20-D5FDB431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21BF-0809-4186-995E-3DE9303D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7528-788B-4367-BEA8-A11E39FF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63E9-51E0-41F4-9216-F0FB109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794-38F5-4F8E-98D1-9EC8DA0D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BA92-D6F0-435B-BDD4-AE38573D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5EBF-DDF2-457D-A8FE-4D459D8B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5006-747D-4126-9024-33F2D2E6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333A-C33C-44D6-B1BD-8AFB1A3D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DE46-41C1-4694-964C-E80AE7DC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01D-2A1F-4CB3-8883-8CE6C411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4E8-93BB-4F99-B119-DB9C4710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B99-75E9-4E41-B572-5CC86E76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14A-05F8-443F-B0A5-E605D7CB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834-172C-4D10-8E90-AB9A2C25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F3C-C73C-4FE7-ACE9-568BB768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387-4151-4FD8-AB0A-ED1DF752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CA38-41EE-4938-B3B1-C08D53FFE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4160-CCE5-4B8C-80CF-89EB5D4A61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Content Placeholder 3" descr="germs.jpg"/>
          <p:cNvPicPr/>
          <p:nvPr/>
        </p:nvPicPr>
        <p:blipFill>
          <a:blip r:embed="rId1"/>
          <a:srcRect l="-44247" t="0" r="-44247" b="0"/>
          <a:stretch/>
        </p:blipFill>
        <p:spPr>
          <a:xfrm>
            <a:off x="-762120" y="2286000"/>
            <a:ext cx="7419960" cy="3962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bacteria cartoon.jpg"/>
          <p:cNvPicPr/>
          <p:nvPr/>
        </p:nvPicPr>
        <p:blipFill>
          <a:blip r:embed="rId2"/>
          <a:stretch/>
        </p:blipFill>
        <p:spPr>
          <a:xfrm>
            <a:off x="5029200" y="1905120"/>
            <a:ext cx="3314880" cy="245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bacteria.jpg"/>
          <p:cNvPicPr/>
          <p:nvPr/>
        </p:nvPicPr>
        <p:blipFill>
          <a:blip r:embed="rId3"/>
          <a:stretch/>
        </p:blipFill>
        <p:spPr>
          <a:xfrm>
            <a:off x="5105520" y="4495680"/>
            <a:ext cx="342900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32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 of Bacterial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nuclear area (D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rib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caps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pili (attach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flagellum  (mv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Prokaryotic Cell Structure"/>
          <p:cNvPicPr/>
          <p:nvPr/>
        </p:nvPicPr>
        <p:blipFill>
          <a:blip r:embed="rId1"/>
          <a:stretch/>
        </p:blipFill>
        <p:spPr>
          <a:xfrm>
            <a:off x="914400" y="1828800"/>
            <a:ext cx="4237200" cy="4857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057040" y="1218960"/>
            <a:ext cx="6095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g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brations a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mp into th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600200" y="2133720"/>
            <a:ext cx="67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microbiologybytes.com/video/motilit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Rep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 to full size and divide in 30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is usually limited to availability of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ly reproduce by simple binary fi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rates vary depending on bac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Asexual Re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osome repl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 chromosomes sepa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sma membrane in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sepa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binfission"/>
          <p:cNvPicPr/>
          <p:nvPr/>
        </p:nvPicPr>
        <p:blipFill>
          <a:blip r:embed="rId1"/>
          <a:stretch/>
        </p:blipFill>
        <p:spPr>
          <a:xfrm>
            <a:off x="184320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Nut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erotrop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parasi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saprophy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trop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photosynth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chemosynth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44792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ochlorophy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urple, red, brow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from hydrogen sulfide not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 is not a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44792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of Bacteria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is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 5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(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 –  9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(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al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(if photosynthe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447920" y="15228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Survi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dosp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rotective cov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nucle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d metabol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tic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g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NA passes fr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bacteria to another thru a pilu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ransform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bacterial abso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NA from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Transduction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: bacteriophage transfers genetic materi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44792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omposer organis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enzymes to b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 organic sub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143000" y="3962520"/>
            <a:ext cx="6934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crobiologi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micro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Conjug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Content Placeholder 3" descr="C0070793-Bacterial_conjugation,_artwork-SPL.jpg"/>
          <p:cNvPicPr/>
          <p:nvPr/>
        </p:nvPicPr>
        <p:blipFill>
          <a:blip r:embed="rId1"/>
          <a:srcRect l="-63016" t="0" r="-63016" b="0"/>
          <a:stretch/>
        </p:blipFill>
        <p:spPr>
          <a:xfrm>
            <a:off x="-617400" y="1905120"/>
            <a:ext cx="9462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Transform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Content Placeholder 5" descr="transformation.jpg"/>
          <p:cNvPicPr/>
          <p:nvPr/>
        </p:nvPicPr>
        <p:blipFill>
          <a:blip r:embed="rId1"/>
          <a:srcRect l="-65323" t="0" r="-65323" b="0"/>
          <a:stretch/>
        </p:blipFill>
        <p:spPr>
          <a:xfrm>
            <a:off x="-762120" y="1371600"/>
            <a:ext cx="10482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Trans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Content Placeholder 3" descr="Bacterial-Transduction.jpg"/>
          <p:cNvPicPr/>
          <p:nvPr/>
        </p:nvPicPr>
        <p:blipFill>
          <a:blip r:embed="rId1"/>
          <a:srcRect l="-4778" t="0" r="-4778" b="0"/>
          <a:stretch/>
        </p:blipFill>
        <p:spPr>
          <a:xfrm>
            <a:off x="-173160" y="1752480"/>
            <a:ext cx="9317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copla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cell 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ous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 in specific solute concentr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pneu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art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urinary tract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&lt;i&gt;Mycoplasma&lt;/i&gt; sp. Non-cell walled bacterium"/>
          <p:cNvPicPr/>
          <p:nvPr/>
        </p:nvPicPr>
        <p:blipFill>
          <a:blip r:embed="rId1"/>
          <a:stretch/>
        </p:blipFill>
        <p:spPr>
          <a:xfrm>
            <a:off x="914400" y="4038480"/>
            <a:ext cx="3495600" cy="2619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447920" y="15228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ketts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cellular para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cell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herical or rod sha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typhus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Rocky Mt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ted fe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AIDS10bb_lores"/>
          <p:cNvPicPr/>
          <p:nvPr/>
        </p:nvPicPr>
        <p:blipFill>
          <a:blip r:embed="rId1"/>
          <a:stretch/>
        </p:blipFill>
        <p:spPr>
          <a:xfrm>
            <a:off x="838080" y="3678120"/>
            <a:ext cx="4191120" cy="3998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icture- Late (petechial) rash on palm of hand and forearm"/>
          <p:cNvPicPr/>
          <p:nvPr/>
        </p:nvPicPr>
        <p:blipFill>
          <a:blip r:embed="rId2"/>
          <a:stretch/>
        </p:blipFill>
        <p:spPr>
          <a:xfrm>
            <a:off x="6095880" y="1847880"/>
            <a:ext cx="2362320" cy="1809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1447920" y="15228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och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t or corkscrew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ree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live in digestive or repro 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: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me dise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treponemapal"/>
          <p:cNvPicPr/>
          <p:nvPr/>
        </p:nvPicPr>
        <p:blipFill>
          <a:blip r:embed="rId1"/>
          <a:stretch/>
        </p:blipFill>
        <p:spPr>
          <a:xfrm>
            <a:off x="838080" y="3581280"/>
            <a:ext cx="2246400" cy="56293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1447920" y="15228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0" descr="Bullseye_Lyme_Disease_Rash"/>
          <p:cNvPicPr/>
          <p:nvPr/>
        </p:nvPicPr>
        <p:blipFill>
          <a:blip r:embed="rId2"/>
          <a:stretch/>
        </p:blipFill>
        <p:spPr>
          <a:xfrm>
            <a:off x="6513480" y="3352680"/>
            <a:ext cx="2630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och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t or corkscrew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ree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live in digestive or repro 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: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me dise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syph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ws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treponemapal"/>
          <p:cNvPicPr/>
          <p:nvPr/>
        </p:nvPicPr>
        <p:blipFill>
          <a:blip r:embed="rId1"/>
          <a:stretch/>
        </p:blipFill>
        <p:spPr>
          <a:xfrm>
            <a:off x="838080" y="3581280"/>
            <a:ext cx="2246400" cy="5629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2431Yaws_wrist"/>
          <p:cNvPicPr/>
          <p:nvPr/>
        </p:nvPicPr>
        <p:blipFill>
          <a:blip r:embed="rId2"/>
          <a:stretch/>
        </p:blipFill>
        <p:spPr>
          <a:xfrm>
            <a:off x="6477120" y="4842000"/>
            <a:ext cx="2438280" cy="1874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1447920" y="15228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itri Iwanowsk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with T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us” meaning poison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Wendell Stanl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lated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MV virus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tobamo1"/>
          <p:cNvPicPr/>
          <p:nvPr/>
        </p:nvPicPr>
        <p:blipFill>
          <a:blip r:embed="rId1"/>
          <a:stretch/>
        </p:blipFill>
        <p:spPr>
          <a:xfrm>
            <a:off x="5486400" y="1752480"/>
            <a:ext cx="3333600" cy="2419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fig01"/>
          <p:cNvPicPr/>
          <p:nvPr/>
        </p:nvPicPr>
        <p:blipFill>
          <a:blip r:embed="rId2"/>
          <a:stretch/>
        </p:blipFill>
        <p:spPr>
          <a:xfrm>
            <a:off x="5029200" y="41148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144792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6108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) Nucleic aci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DNA or RN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) Protein Co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examples_of_viruses"/>
          <p:cNvPicPr/>
          <p:nvPr/>
        </p:nvPicPr>
        <p:blipFill>
          <a:blip r:embed="rId1"/>
          <a:stretch/>
        </p:blipFill>
        <p:spPr>
          <a:xfrm>
            <a:off x="4114800" y="0"/>
            <a:ext cx="510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1N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This preliminary negative stained transmission electron micrograph (TEM) image depicts some of the ultrastructural morphology of an H1N1 &quot;swine flu&quot; virus culture."/>
          <p:cNvPicPr/>
          <p:nvPr/>
        </p:nvPicPr>
        <p:blipFill>
          <a:blip r:embed="rId1"/>
          <a:stretch/>
        </p:blipFill>
        <p:spPr>
          <a:xfrm>
            <a:off x="685800" y="1219320"/>
            <a:ext cx="8153280" cy="5260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Swine flu microscope "/>
          <p:cNvPicPr/>
          <p:nvPr/>
        </p:nvPicPr>
        <p:blipFill>
          <a:blip r:embed="rId2"/>
          <a:stretch/>
        </p:blipFill>
        <p:spPr>
          <a:xfrm>
            <a:off x="177840" y="1219320"/>
            <a:ext cx="8889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JOB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ic (disease cau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bacteria are decomposers, they eat dead th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human flora in the digestive tract, oral cavity, skin, and other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cteriophag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rus that infects bact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T4 Bacteriophage"/>
          <p:cNvPicPr/>
          <p:nvPr/>
        </p:nvPicPr>
        <p:blipFill>
          <a:blip r:embed="rId1"/>
          <a:stretch/>
        </p:blipFill>
        <p:spPr>
          <a:xfrm>
            <a:off x="1523880" y="2286000"/>
            <a:ext cx="5943600" cy="4341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144792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ophage pi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Content Placeholder 3" descr="20070207_virus.jpg"/>
          <p:cNvPicPr/>
          <p:nvPr/>
        </p:nvPicPr>
        <p:blipFill>
          <a:blip r:embed="rId1"/>
          <a:srcRect l="-52341" t="0" r="-52341" b="0"/>
          <a:stretch/>
        </p:blipFill>
        <p:spPr>
          <a:xfrm>
            <a:off x="-152280" y="1905120"/>
            <a:ext cx="9462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33520" y="1522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tic Cycle &amp; Lysogenic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6" descr="Lytic and Lysogenic Cycles of a Bacteriophage"/>
          <p:cNvPicPr/>
          <p:nvPr/>
        </p:nvPicPr>
        <p:blipFill>
          <a:blip r:embed="rId1"/>
          <a:stretch/>
        </p:blipFill>
        <p:spPr>
          <a:xfrm>
            <a:off x="533520" y="2425680"/>
            <a:ext cx="82296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es &amp; injures cells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t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ytic and Lysogenic Cycles of a Bacteriophage"/>
          <p:cNvPicPr/>
          <p:nvPr/>
        </p:nvPicPr>
        <p:blipFill>
          <a:blip r:embed="rId1"/>
          <a:stretch/>
        </p:blipFill>
        <p:spPr>
          <a:xfrm>
            <a:off x="533520" y="2425680"/>
            <a:ext cx="82296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ytic and Lysogenic cyc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Content Placeholder 3" descr="8lytic.jpg"/>
          <p:cNvPicPr/>
          <p:nvPr/>
        </p:nvPicPr>
        <p:blipFill>
          <a:blip r:embed="rId1"/>
          <a:srcRect l="-16672" t="0" r="-16672" b="0"/>
          <a:stretch/>
        </p:blipFill>
        <p:spPr>
          <a:xfrm>
            <a:off x="-318960" y="1752480"/>
            <a:ext cx="94629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es &amp; injures cells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Vir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ding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u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HIV, the virus that causes AIDS, is shown budding out of a human immune cell."/>
          <p:cNvPicPr/>
          <p:nvPr/>
        </p:nvPicPr>
        <p:blipFill>
          <a:blip r:embed="rId1"/>
          <a:stretch/>
        </p:blipFill>
        <p:spPr>
          <a:xfrm>
            <a:off x="5181480" y="2376360"/>
            <a:ext cx="321948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t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s inactive for long periods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t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Lytic and Lysogenic Cycles of a Bacteriophage"/>
          <p:cNvPicPr/>
          <p:nvPr/>
        </p:nvPicPr>
        <p:blipFill>
          <a:blip r:embed="rId1"/>
          <a:stretch/>
        </p:blipFill>
        <p:spPr>
          <a:xfrm>
            <a:off x="533520" y="2425680"/>
            <a:ext cx="82296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81536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eases &amp; Disord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ectious disea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a 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62120" y="-7632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cubation peri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between contracting the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coming down with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CORTI-INCUBATOR-50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municable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pread from person to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drop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cont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cont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wound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insect vecto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echanically or by bi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immune carriers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flea"/>
          <p:cNvPicPr/>
          <p:nvPr/>
        </p:nvPicPr>
        <p:blipFill>
          <a:blip r:embed="rId1"/>
          <a:stretch/>
        </p:blipFill>
        <p:spPr>
          <a:xfrm>
            <a:off x="5638680" y="2514600"/>
            <a:ext cx="2590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Domains: Bacteria &amp; Arc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dom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 &amp;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ha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m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chea is Differ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can live in extreme pl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do NOT have peptidogly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a little like eukaryotic cel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Portrait of Mary"/>
          <p:cNvPicPr/>
          <p:nvPr/>
        </p:nvPicPr>
        <p:blipFill>
          <a:blip r:embed="rId1"/>
          <a:stretch/>
        </p:blipFill>
        <p:spPr>
          <a:xfrm>
            <a:off x="2438280" y="914400"/>
            <a:ext cx="3735360" cy="39625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819520" y="533412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 M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hoid 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451440" y="1219320"/>
            <a:ext cx="825408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 With TB Locked Up To Protect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berculosis Pat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ned To Arizona Jail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Tuberculosis patient Robert Daniels in his hospital room on the jail ward of the Maricopa Medical Center on July 12, 2007 (Photo Credit: Rene Gutel). "/>
          <p:cNvPicPr/>
          <p:nvPr/>
        </p:nvPicPr>
        <p:blipFill>
          <a:blip r:embed="rId1"/>
          <a:stretch/>
        </p:blipFill>
        <p:spPr>
          <a:xfrm>
            <a:off x="2209680" y="3048120"/>
            <a:ext cx="47340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viral diseas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bo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titis A, B, C,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nucle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viral disea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ken po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b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 N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 you stop virus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 by vaccines or antiviral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ctivated vaccines – dead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uated vaccine – altered live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 you stop virus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viral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erons – stop protein production for viral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ase Inhibitors – stop protein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ion inhibitors – blocks virus from entering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s eff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issue de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oxin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otoxi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ex: tetanus &amp; botul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endotoxins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    ex: bubonic pla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838080" y="1217880"/>
            <a:ext cx="784872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al Defenses:  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ine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&amp;Mucous membr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Tears (lysozy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914400" y="1254960"/>
            <a:ext cx="7696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llular Defenses: 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ine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gocytic cell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phatic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914400" y="1217880"/>
            <a:ext cx="76960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ic Defen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ne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chaebacteria Kingdo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eptidoglycan in the cell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 resemble Eukaryotic DNA with the presence of histone prote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are Thermoacidophiles (high temp or highly acid soils), methanogens (methane producers), halophiles (salt-lover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 against Diseases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838080" y="1862280"/>
            <a:ext cx="784872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teriocidal chemic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ll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antibodies, antibiotics 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icillin &amp; streptomyc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 against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838080" y="1420920"/>
            <a:ext cx="830592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biotics work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interfering with bacterial 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disrupting cell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interfering with protein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inhibiting RNA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 against Diseases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914400" y="2285640"/>
            <a:ext cx="7086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teriostatic chemic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multiplication of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sulfa drug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5331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ro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ectious strand of circular 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33520" y="3884400"/>
            <a:ext cx="7924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normal form of a prot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es mad cow disease &amp; scra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762120" y="4265640"/>
            <a:ext cx="7924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http://www.madcowblog.com/uploads/image/madcow.jpg"/>
          <p:cNvPicPr/>
          <p:nvPr/>
        </p:nvPicPr>
        <p:blipFill>
          <a:blip r:embed="rId1"/>
          <a:stretch/>
        </p:blipFill>
        <p:spPr>
          <a:xfrm>
            <a:off x="4267080" y="4000680"/>
            <a:ext cx="4476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ch’s Postula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s to identify pathoge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n only in sick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n in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ed into healthy subject and see if they get the disease (experiment with m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pathogens from the one found and the one injected to see if they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No image for monera? Refresh the page"/>
          <p:cNvPicPr/>
          <p:nvPr/>
        </p:nvPicPr>
        <p:blipFill>
          <a:blip r:embed="rId1"/>
          <a:stretch/>
        </p:blipFill>
        <p:spPr>
          <a:xfrm>
            <a:off x="2438280" y="1219320"/>
            <a:ext cx="46357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ubacteria Classification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bacteria are classified by their shape and by Gram s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 stain is a process to determine the amount of peptidoglycan in the cell wall and the bacteria is separated by how it sta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shapes of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cus = 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phlococ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r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92589a"/>
          <p:cNvPicPr/>
          <p:nvPr/>
        </p:nvPicPr>
        <p:blipFill>
          <a:blip r:embed="rId1"/>
          <a:stretch/>
        </p:blipFill>
        <p:spPr>
          <a:xfrm>
            <a:off x="4038480" y="2819520"/>
            <a:ext cx="4762800" cy="3809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shapes of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illus = ro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shrich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empseudo"/>
          <p:cNvPicPr/>
          <p:nvPr/>
        </p:nvPicPr>
        <p:blipFill>
          <a:blip r:embed="rId1"/>
          <a:stretch/>
        </p:blipFill>
        <p:spPr>
          <a:xfrm>
            <a:off x="4114800" y="3124080"/>
            <a:ext cx="4724280" cy="34261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shapes of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llum = spiral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ptospi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terrog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emlepto"/>
          <p:cNvPicPr/>
          <p:nvPr/>
        </p:nvPicPr>
        <p:blipFill>
          <a:blip r:embed="rId1"/>
          <a:stretch/>
        </p:blipFill>
        <p:spPr>
          <a:xfrm>
            <a:off x="3657600" y="3049560"/>
            <a:ext cx="5257800" cy="3483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0:54:25Z</dcterms:created>
  <dc:creator>Peni Hirt</dc:creator>
  <dc:description/>
  <dc:language>en-US</dc:language>
  <cp:lastModifiedBy>Jason Cobb</cp:lastModifiedBy>
  <dcterms:modified xsi:type="dcterms:W3CDTF">2012-03-09T11:41:59Z</dcterms:modified>
  <cp:revision>261</cp:revision>
  <dc:subject/>
  <dc:title>Ch. 9 The Kingdom Monera &amp; Viruses</dc:title>
</cp:coreProperties>
</file>